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3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FCE-9E8F-4A46-8BB7-66E2312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FE1-7010-444C-9C25-F3563C3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5D5-55C3-4CE9-BA5F-A5268766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64A-6586-46BA-BB7D-EB95F8A3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B5A-7C32-4FD4-B8EB-90AC679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C32-C4A1-4856-80E0-A093C5B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33F-E26C-4CB3-8795-EDAA8AC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672-C246-4D0E-B185-D1F51E47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D29-DA15-4217-B4F4-C0735A40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E35-99F9-4E26-ACEA-F4B7C99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307-948C-4CE3-8CEB-369F7A9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7CA-E726-4638-9C08-DE49332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128-62BC-4737-BE1F-97A8DDB2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Jefferson County BoE</cp:lastModifiedBy>
  <dcterms:modified xsi:type="dcterms:W3CDTF">2008-02-28T19:29:33Z</dcterms:modified>
  <cp:revision>16</cp:revision>
  <dc:subject/>
  <dc:title>Plot Development</dc:title>
</cp:coreProperties>
</file>